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move the slide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0841-F683-4EC8-ADA1-457623E0B5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C00-7D85-4265-9A6D-CC68B71E6D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04D-5920-4995-BCCE-BD648F469B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20DE-FFD7-4B39-A014-9DB0B0B69C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2D2-65E8-4CEE-917C-19AB731E93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FED-F39F-43FF-8EFB-40CC7B79E0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832-3A08-438D-9491-EB3511B1BF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444-9F7F-41D0-B55D-5E67E7FEB1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57E-775D-4D8A-8AEF-F914B18AA0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B1F3-E472-4B03-AD28-E69AA531BA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9D23-586A-4438-A329-E2B899F106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B857-D3AA-42FB-B2E8-8380E05B58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8E9-E819-4A79-A009-913D88D0DF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287-3CBB-483E-9A42-B35FBB0E1B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D25D-C60F-4B7A-BD23-96ED6C64C3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AA5-5BE4-4A62-A396-87C9CF7020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DE50-5D1B-4D92-B400-5758E7EA21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75D-4D0D-4ED9-9309-6644240965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CFC-75D9-4428-9718-CCF36CA023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44F-26BA-4318-BE11-E83D2923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790-5309-43A3-B692-87F87A5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F6E79-BB33-4ED6-BDCF-D205DAC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D5A87-7088-49A2-9A04-C34FC85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775F8-D246-434F-850E-E8981741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2233C-B1E2-4B8B-82C4-2287361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A35A0-56C5-4C3F-89FA-A9E6CC2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0727-292B-4BF8-99FC-9F366462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869E-80A5-45F9-B08C-56B40A0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EBB58-36D6-4F11-868A-2D8CD577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F1BCB-699D-4B5A-8CCC-810AF7F5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EA385-F72B-4DFC-9034-70B388F7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C20-85C1-4DCC-8DF9-3F456425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112AC-194D-4EF0-B35B-1087ECF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9E7BF-073E-4357-8A85-2CFC85F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352B-2B18-4A8F-8EE4-61B1F4C6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F8312-9D71-44B5-9A35-40FA2081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4596A-FBE5-4A68-BE25-E06816E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0F1C5-D142-4DDB-A9AF-CE573DA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5A018-50F7-42C2-8B9B-FC89A38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30CD6-0ECE-44A2-A69F-BE87CF4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77DF0-0220-4A07-AF57-9906ED15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98B7-39E5-4BAA-8272-A549BF7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101-64A1-480C-9A84-EBC9771A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63B6F-6280-43F1-8C3F-EA081E8C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575CA-5160-4ED5-BD19-1F7B8B26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F1B5D-71FC-41F7-B5D6-424ADD65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097B-263B-416C-B9FC-6AF42CCB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954B7-E1D0-4CD9-9465-0BA3455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A0402-DCBE-4F03-9BEF-5A6404FF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62FFA-23D1-490D-AA90-8723AD5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3519-3D62-4C5D-B3D4-D64DD73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C6F0-6941-4937-A9B4-193A66E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8FA8A-0458-4DFA-A7CC-62C517C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8C5D-51E7-4224-B248-8D821379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8F953-8806-4AF0-BB9E-FB425490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71E7-E9C7-4439-AC6D-341152D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0618-100B-4C5D-A7DD-ECE67ED4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59786-0625-42CA-94B4-49A30153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0E06-5DA0-4102-B331-886C3F4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AD114-ADD4-450D-984C-3CA1E834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17504-38F6-4D50-B79A-6A7CFC2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28B8D-DCFB-4B50-A87D-9FEA386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D792A-20CE-4790-B6FD-B9C97A20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CA896-91D9-4E28-BF21-4E1FC84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8BE-191C-4F46-BFBB-EAE8AF06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AA84B-9257-4DE4-BB27-5957A190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506C2-2834-41FD-90BB-FC3DC59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FA629-7E1B-4657-881E-04A57D73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A7A4-13A2-4CF4-9BF5-E2D57546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2A161-239F-4BD7-A930-C7796AE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902D-1321-4AF9-B3AA-9E5A9BE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A86D-6193-4D56-BFFE-DB17DD2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AED-27B2-415F-93B8-7768FA4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88B-9684-43AA-BC5A-AAA4014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0A68-3EC7-42FC-8557-2A2179A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85D-1333-4273-8B91-1833DDD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67A-6663-47EE-891F-C9E5191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C27A-0199-4C51-AAC9-8773FA6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4589-8529-4FF8-A5EE-0E134853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F86-75A2-4465-BC76-2B1851EF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4B6-0E49-44CC-A30E-1613071F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50C9-6A07-419F-9D05-3B692199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8C2C-40CD-42EB-8295-71433DB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C811-E590-483F-B950-2FC30A6F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AFE1-EBA8-4ED4-A4D5-84491C8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F794-ED08-4125-A628-45A88CA3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27D-444B-47BF-B949-F6AABF7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2A0E-25C2-425E-81DC-087CD51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9681-671B-4B52-8DE8-3683CE7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026F-CF01-450E-897A-69DF672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5207-C915-4D23-A14D-00126EA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E20C-3FCD-42BA-B1DB-AB93DE7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6EB1-49C0-47F7-AB81-B1729C59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46AB-8405-442E-ADDC-1697A776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5653-3DF0-4136-8B45-5B807771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8A33-40A7-48E2-B5D0-57AD6A94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C7DA-E7A6-4149-BB30-927D751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30C-9140-40FD-82D9-BBEFE06B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C34C-CA61-4438-92BF-180D4B0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EABE-F3BD-45B5-9265-85B97A4A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560E-AB4E-41D6-80BD-CF5BD5E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E253-3F9B-4E0B-8EED-01721EE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E029-F048-44CA-8714-8D9CB39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547F-6639-484B-B2E4-9EDA9CB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ED28-EC50-4D89-A331-8B19E70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8785-F812-47F7-943C-63D5D72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F87F-D9F1-4E60-8F1C-74E4006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888F-980C-460F-B985-0623595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DCA-85FC-404A-AFA7-4BA40E29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A3DB-44B8-452F-B9A9-E7B997D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A7B7-7F3B-4ABA-92DA-DFAD7A86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DA63-6C2E-4A5C-84C7-44E4C19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E270-A423-4FD6-BCC1-2613DEEB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A754-21CB-4AAF-96D0-E2B8CFA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6E7A-2911-4232-B699-726329D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FEB6-D00C-46C0-A4E1-1631FBB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972E-7650-446F-B96C-C6C4891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1A0D-8A82-4E4C-A7D1-7D815DF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5B0E-2363-4AA2-9500-313B7FDB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1B8-B3B5-4C04-8C80-F540176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C7D3-3164-410F-BEE7-113369F1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5238-1583-4F75-9912-28E9F628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D010-D19F-4042-A00C-F3C4B30D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3E75-3A9B-4570-B67E-CE29295D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34A7-E256-4789-90F1-6241C9F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FF15-B9EB-4356-83E6-4474E7EE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92B9A-BA7B-479A-8939-2FCC409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4C13-944D-4207-82FA-2BD52C3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57D9-FCEB-472D-9009-56E9205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D48D-7E7C-4B40-9A78-41960CE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37B-3127-4245-A780-072EE19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4815-FC02-4087-B503-6FA5CE1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7493-5D98-41CA-8327-BA06103B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94A5-A033-4415-9D6B-30DABBA4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4126-9B63-4FBD-813A-5A54CC41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0D2A9-2B1B-4143-9673-0F3A460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A83E-75AC-4B49-B58D-A2B2C48F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597C-F2D0-4FA0-93F1-1419F1B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3CD51-62C1-4DD0-BE97-003DE167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564E-2E90-4FDB-91EF-FA9941F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2BAF-31C9-4C16-AC23-039BBA6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6CC-0FA5-475B-8269-7822081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E39BC-B47B-49D7-8582-4CC72C6F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CBE7B-8291-4635-B5E5-9EDC424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EA96-2E7F-4D38-A038-E6D2C22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4BD8-6A41-4B09-8D7B-83BBD93D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165C7-2D23-48AD-A365-8A174D02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3DE4-3532-4E1A-BC92-CD33F3C9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674E-D0DD-4914-90B4-8DE69A2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91E98-14C5-4460-8D0B-2D9DF9F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9C02-4000-439C-B947-5D465CB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5F21-52EB-4724-B2B1-651A361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BF2-8DBB-4415-AF81-D992B54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312A-D41F-4FF8-88A6-DC175C62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0401-809A-4133-A8AC-EC7A7C9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ED68-14C0-46E5-B374-4670289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2FB2-D730-4C81-BD52-BA81B18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6751-27E2-4F2D-A98F-DFDED288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7D3D9-AEB1-4CBC-9029-A12AEB71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AD41-DED7-42CE-816D-D4D66363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E624-341D-4A5E-AAAA-9B43EF3E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3E85D-EFD2-4D27-9142-C78BF0D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A9706-433C-4891-AD79-859D938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FE3-7F9E-435B-A7CE-22C0687AF185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76B8-3411-4DEA-A1DE-8A9AF3CC92D9}" type="slidenum">
              <a:rPr b="0" lang="ru-RU" sz="9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7C7-98FC-44BD-A51B-64BF73F89E95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4CFC-8B60-4B44-93EB-35FB9A4C6584}" type="slidenum">
              <a:rPr b="0" lang="ru-RU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DD5A-0993-4FEB-B164-CF59FDFDD593}" type="slidenum">
              <a:rPr b="0" lang="ru-RU" sz="13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EB6-221F-4763-9CD0-1BB445429B73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1CD-2F2D-4D83-8D92-C004BAA8DFF6}" type="slidenum">
              <a:rPr b="0" lang="ru-RU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272-C265-43A3-9F27-799762F1AF0F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A91-E611-4B88-B2B9-EACE76414CAB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2313-5D1E-4DE2-8D5E-0E46F96C2BF7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6A4-E35F-4D6C-B6F3-38AA710CF006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04A-C17D-471C-AFCD-AB54DC73DB89}" type="slidenum"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536400" y="55440"/>
            <a:ext cx="8577360" cy="2737080"/>
          </a:xfrm>
          <a:prstGeom prst="rect">
            <a:avLst/>
          </a:prstGeom>
          <a:ln w="0">
            <a:noFill/>
          </a:ln>
        </p:spPr>
      </p:pic>
      <p:pic>
        <p:nvPicPr>
          <p:cNvPr id="529" name="Подзаголовок 2" descr=""/>
          <p:cNvPicPr/>
          <p:nvPr/>
        </p:nvPicPr>
        <p:blipFill>
          <a:blip r:embed="rId2"/>
          <a:stretch/>
        </p:blipFill>
        <p:spPr>
          <a:xfrm>
            <a:off x="633240" y="2743200"/>
            <a:ext cx="827892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20200" cy="21891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457200" y="264312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Здесь предполагалось освоить 2 млн. 305 тыс. га земли, т.е. более 34%, предназначенных к освоению в РСФСР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14520" y="928440"/>
            <a:ext cx="461484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9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На целинные земли ехали люди из разных уголков страны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spcBef>
                <a:spcPts val="79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spcBef>
                <a:spcPts val="79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В течение 1954-1955 годов сюда прибыло  20т. семей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6" name="Picture 2" descr="i?id=75112632&amp;tov=7"/>
          <p:cNvPicPr/>
          <p:nvPr/>
        </p:nvPicPr>
        <p:blipFill>
          <a:blip r:embed="rId1"/>
          <a:stretch/>
        </p:blipFill>
        <p:spPr>
          <a:xfrm>
            <a:off x="262080" y="993600"/>
            <a:ext cx="4267080" cy="56088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В течение 1954 года на целинных землях Алтайского края было организовано десять новых совхозов: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Кулундин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Алта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Егорьев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Комсомоль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Романов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Белоглазов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Курьин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Прутско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Березовский»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«Первомайский»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В них прибыли 3500 новоселов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142880" y="785880"/>
            <a:ext cx="4714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Lucida Sans Unicode"/>
              </a:rPr>
              <a:t>К 1 июня колхозы и совхозы Алтайского края выполнили государственный план сева яровых культур на 108 процентов. 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Lucida Sans Unicode"/>
              </a:rPr>
              <a:t>Засеяно было на миллион гектаров больше, чем в 1953 году.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9" name="Picture 2" descr="celina2a"/>
          <p:cNvPicPr/>
          <p:nvPr/>
        </p:nvPicPr>
        <p:blipFill>
          <a:blip r:embed="rId1"/>
          <a:stretch/>
        </p:blipFill>
        <p:spPr>
          <a:xfrm>
            <a:off x="189000" y="1341360"/>
            <a:ext cx="3968640" cy="7821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Lucida Sans Unicode"/>
              </a:rPr>
              <a:t>Освоение целины в развитии Тюменцевского района </a:t>
            </a:r>
            <a:br>
              <a:rPr sz="1300"/>
            </a:br>
            <a:endParaRPr b="0" lang="en-US" sz="36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71320" y="19285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С поступлением новой рабочей силы в Тюменцевский район, прибыла и более усовершенствованная техника. Первоцелинники смогли повысить не только урожайность, но и вывели многие колхозы на лидирующие позиции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0717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С помощью освоения целинных и залежных земель, стало возможным развитие и процветание района, ведь пик благосостояния пришелся на 70-80-е гг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Для села Андронова освоение целины оказалось точкой от воли бурного развития: Укрепился колхоз «Победитель», расширились посевные площади, увеличилось количество рабочих мест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9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Освоение целинных и залежных земель вошло в историю страны как выдающийся всенародный трудовой подвиг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493560" y="1311120"/>
            <a:ext cx="8894880" cy="33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1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785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Lucida Sans Unicode"/>
              </a:rPr>
              <a:t>Хронологические рамки: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 конец 1953 – 1960 гг., период наиболее интенсивного освоения целинных земель. 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Lucida Sans Unicode"/>
              </a:rPr>
              <a:t>Территориальные рамки: 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Алтайский край и Тюменцевский район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b75b"/>
              </a:solidFill>
              <a:latin typeface="Lucida Sans Unicod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14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Lucida Sans Unicode"/>
              </a:rPr>
              <a:t>Новизна: 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В настоящее время не существует обобщения литературных источников по освоению целинных и залежных земель в Тюменцевском районе и в частности в селе Андронове. 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57168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Lucida Sans Unicode"/>
              </a:rPr>
              <a:t>Цель </a:t>
            </a:r>
            <a:r>
              <a:rPr b="0" lang="ru-RU" sz="3000" spc="-1" strike="noStrike">
                <a:solidFill>
                  <a:srgbClr val="ffffff"/>
                </a:solidFill>
                <a:latin typeface="Lucida Sans Unicode"/>
              </a:rPr>
              <a:t>исследования: проследить  процесс освоения целинных и залежных земель в Алтайском крае и Тюменцевском районе.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Lucida Sans Unicode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Lucida Sans Unicode"/>
              </a:rPr>
              <a:t>Определить  роль  Алтайского края в освоении целинных и залежных земель. 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Lucida Sans Unicode"/>
              </a:rPr>
              <a:t>Обобщить литературный материал по освоению целинных земель в Тюменцевском районе и селе Андронове.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785880"/>
            <a:ext cx="84009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Lucida Sans Unicode"/>
              </a:rPr>
              <a:t>Объект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: освоение целинных и залежных земель в Алтайском крае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Lucida Sans Unicode"/>
              </a:rPr>
              <a:t>Предмет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: процесс освоения целинных земель в Тюменцевском районе и селе Андронове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7226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571920" y="500040"/>
            <a:ext cx="511488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Алтайский край – одна из главных житниц России, и сегодня здесь производится более 1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/3 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зерна Западно-Сибирского региона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Это стало возможным благодаря освоению целины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38" name="Picture 2" descr="http://im6-tub.yandex.net/i?id=28933748&amp;tov=6"/>
          <p:cNvPicPr/>
          <p:nvPr/>
        </p:nvPicPr>
        <p:blipFill>
          <a:blip r:embed="rId1"/>
          <a:stretch/>
        </p:blipFill>
        <p:spPr>
          <a:xfrm>
            <a:off x="341280" y="2077920"/>
            <a:ext cx="341964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57120" y="713880"/>
            <a:ext cx="832968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Lucida Sans Unicode"/>
              </a:rPr>
              <a:t>56 лет назад наше государство взяло курс на расширение посевных площадей за счет распашки земель на востоке страны и быстрое развитие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71680" y="85716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а фоне внутриполитических преобразований, не будет лишним пересмотреть исторический опыт нашего государства, рассмотреть освоение целинных земель с разных позиций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447840" indent="-382680">
              <a:spcBef>
                <a:spcPts val="9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28400" y="857160"/>
            <a:ext cx="8258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Пленум поставил задачу расширить в 1954 — 1955 годах посевы зерновых культур не менее чем на 13 миллионов гектаров за счет освоения крупных массивов целинных и залежных земель в Казахстане, Сибири, на Урале, в Поволжье и Северном Кавказе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05:10Z</dcterms:created>
  <dc:creator>Олечка</dc:creator>
  <dc:description/>
  <dc:language>en-US</dc:language>
  <cp:lastModifiedBy>Шкляева Ольга Владимировна</cp:lastModifiedBy>
  <dcterms:modified xsi:type="dcterms:W3CDTF">2010-01-27T14:57:06Z</dcterms:modified>
  <cp:revision>23</cp:revision>
  <dc:subject/>
  <dc:title>Слайд 1</dc:title>
</cp:coreProperties>
</file>